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D7F-FA2A-4AA4-B3BD-D8D21902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E3A-D685-43D3-B19A-4E4B2C2B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574-D296-4FB3-8439-72437481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9F7-22C9-4234-88CD-3ACFAE91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4495-A40C-4019-B618-F97EB949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644C-3C0A-4DF7-9668-B219E75A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A1E4-4393-4937-9994-A00A6152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DC01-4C65-4993-9512-A28C3A4E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C0A0-DA3C-48F9-B267-3DD39860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7D36-0A67-4AE2-84EF-456CF484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83D5-5CF3-495C-9857-96CAA28B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237-7C1B-4593-8547-3972EB60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0C5B-0C04-418E-BD3A-3B90BD1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F6EF-EF69-4B27-AA6C-21F981D3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B157-F98E-46F9-BD80-926B0E88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1CB6-7D05-4CF1-A5A7-F63C6CDE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EA41-BE30-4FD0-9B61-48452FCB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53D-B110-4267-98EE-6AA74042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9A2-283B-4F8F-97B0-1E3DD531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AEC-077A-40F9-9B3E-99650F78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210-7C7E-4869-979E-07DC9296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E45-FE9E-4AE9-BAE8-69BF4EFA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881-DB24-46D4-9840-412525A2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05C-1D5E-4ED1-ACF2-E101B84A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3BCB-C965-4E86-A791-5E81E8440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4B5C-1408-48FC-85EE-44B57F3AF44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-sbor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История возникновения праздника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«Татьянин день»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2087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"...Установление оного университета в Москве тем способнее будет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ней живущих дворян и разночинцев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ложение оной среди Российского государства, куда из округ лежащих мест способно приехать можно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содержание всякого не стоит многого иждивения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чти всякой у себя имеет родственников или знакомых, где себя квартирою и пищею содержать может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Москве у помещиков на дорогом содержании учителей, из которых большая часть не токмо учить науке не могут, но и сами к тому никакого начала не имеют, и только чрез то младые лета учеников и лучшее время к учению пропадает, а за учение оным бесполезно великая плата дается...«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Ломоносов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11280" y="1341360"/>
            <a:ext cx="432108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ШУВАЛОВ Иван Иванович (1727-97), российский государственный деятель, фаворит Елизаветы Петровны, генерал-адъютант (1760). Покровительствовал просвещению. 1-й куратор Московского университета, президент Академии художеств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5734080"/>
            <a:ext cx="380988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Елизавета Петровн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643280" y="1341360"/>
            <a:ext cx="3743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12(25) января 1755 г. был подписан императрице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Елизаветой Петровной Указ об открытии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в Москве 1-го российского университета</a:t>
            </a:r>
            <a:r>
              <a:rPr b="0" lang="en-US" sz="2400" spc="-1" strike="noStrike">
                <a:solidFill>
                  <a:srgbClr val="f8f8f8"/>
                </a:solidFill>
                <a:latin typeface="Times New Roman Cyr"/>
              </a:rPr>
              <a:t>.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53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2?i=08af8fbca4"/>
          <p:cNvPicPr/>
          <p:nvPr/>
        </p:nvPicPr>
        <p:blipFill>
          <a:blip r:embed="rId1"/>
          <a:stretch/>
        </p:blipFill>
        <p:spPr>
          <a:xfrm>
            <a:off x="250920" y="981000"/>
            <a:ext cx="4224240" cy="47516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178160" y="1341360"/>
            <a:ext cx="496584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од университет определили трехэтажное здание, принадлежавшее Земскому Приказу на Красной площади. Дом отремонтировали и 26 апреля 1775 года приступили к занятиям.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Домовая церковь Московского Университет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Picture 7" descr="419-1"/>
          <p:cNvPicPr/>
          <p:nvPr/>
        </p:nvPicPr>
        <p:blipFill>
          <a:blip r:embed="rId1"/>
          <a:stretch/>
        </p:blipFill>
        <p:spPr>
          <a:xfrm>
            <a:off x="324000" y="1052640"/>
            <a:ext cx="4295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219640" y="228600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едаль на открытие Московского университета. 1775 г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775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4868640"/>
            <a:ext cx="380988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лавное здание МГ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3810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фициальным университетским днем, отмечаемым молебном в университетской церкви, было 12 января. Но его называли не Татьяниным днем, а «днем основания Московского университета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6" name="Picture 7" descr="280px-Moscow_State_University%2C_HDR"/>
          <p:cNvPicPr/>
          <p:nvPr/>
        </p:nvPicPr>
        <p:blipFill>
          <a:blip r:embed="rId1"/>
          <a:srcRect l="12148" t="0" r="8099" b="0"/>
          <a:stretch/>
        </p:blipFill>
        <p:spPr>
          <a:xfrm>
            <a:off x="826920" y="1268280"/>
            <a:ext cx="403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066920" y="119700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Указ Николая I, где он распорядился праздновать не день открытия университета, а подписание акта о его учреждении. Так волей монарха появился студенческий праздник - Татьянин день и День студента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9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076360" y="141300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Татьянин день праздновался повсюду. Он объединял профессоров, студентов нынешних и “бывших” по всей Росс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4" descr="История возникновения праздника Татьянин день праздник студентов"/>
          <p:cNvPicPr/>
          <p:nvPr/>
        </p:nvPicPr>
        <p:blipFill>
          <a:blip r:embed="rId1"/>
          <a:stretch/>
        </p:blipFill>
        <p:spPr>
          <a:xfrm>
            <a:off x="826920" y="1557360"/>
            <a:ext cx="42814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Как отмечают свой праздник студенты в других странах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24360" y="228600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У иностранных студентов нет особых традиций и обычаев празднования этого дня, но тем не менее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Бельгийские студенты неравнодушны к любым студенческим праздникам. Успешное окончание сессии — хороший повод для встреч друз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4" descr="i2?i=6647d48195"/>
          <p:cNvPicPr/>
          <p:nvPr/>
        </p:nvPicPr>
        <p:blipFill>
          <a:blip r:embed="rId1"/>
          <a:stretch/>
        </p:blipFill>
        <p:spPr>
          <a:xfrm>
            <a:off x="0" y="1817640"/>
            <a:ext cx="36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4797360"/>
            <a:ext cx="777384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вятая мученица Татиана родилась в древнем Риме от знатных ро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Picture 7" descr="15810609_2358"/>
          <p:cNvPicPr/>
          <p:nvPr/>
        </p:nvPicPr>
        <p:blipFill>
          <a:blip r:embed="rId1"/>
          <a:stretch/>
        </p:blipFill>
        <p:spPr>
          <a:xfrm>
            <a:off x="1835280" y="620640"/>
            <a:ext cx="57592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РИМЕТЫ ТАТЬЯНИНОГО Д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красно заходит за лес - к колючему ветр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поутру выглянуло, в полдень постояло над деревней - птицы по весне рано прилетят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нег на Татьянин день - быть летом частому дождичк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На Татьяну проглянет солнышко - к раннему прилету птиц"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happy-year.narod.ru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slovo.odessa.u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50035"/>
                </a:solidFill>
                <a:uFillTx/>
                <a:latin typeface="Times New Roman"/>
                <a:hlinkClick r:id="rId1"/>
              </a:rPr>
              <a:t>www.all-sbor.net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5157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2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другой день неправедный судья, воссев на судилище, опять приказал привести на мучение святую Татиану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4" descr="tatiana5"/>
          <p:cNvPicPr/>
          <p:nvPr/>
        </p:nvPicPr>
        <p:blipFill>
          <a:blip r:embed="rId1"/>
          <a:stretch/>
        </p:blipFill>
        <p:spPr>
          <a:xfrm>
            <a:off x="2627280" y="476280"/>
            <a:ext cx="38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5373360"/>
            <a:ext cx="799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утро святую Татиану привели в цирк и выпустили на нее страшного льва, чтобы он растерзал святую. Но лев  лег у ее ног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4" descr="08058131"/>
          <p:cNvPicPr/>
          <p:nvPr/>
        </p:nvPicPr>
        <p:blipFill>
          <a:blip r:embed="rId1"/>
          <a:stretch/>
        </p:blipFill>
        <p:spPr>
          <a:xfrm>
            <a:off x="1835280" y="692280"/>
            <a:ext cx="577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46782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Ее предали огню, но пламя стихло у ее ног. В конце концов, ее умертвили, но принудить отказаться от веры не смогл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1"/>
          <a:stretch/>
        </p:blipFill>
        <p:spPr>
          <a:xfrm>
            <a:off x="250920" y="981000"/>
            <a:ext cx="3684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80px-Saint_Tatiana"/>
          <p:cNvPicPr/>
          <p:nvPr/>
        </p:nvPicPr>
        <p:blipFill>
          <a:blip r:embed="rId1"/>
          <a:stretch/>
        </p:blipFill>
        <p:spPr>
          <a:xfrm>
            <a:off x="584280" y="1125360"/>
            <a:ext cx="3773520" cy="5472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42920" y="2286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кона Святой Татианы — покровительница российского студенчес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громный зал бурлит, как кратер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терты сословные межи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вспоминают alma-mater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едобородые мужи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Тут все равны. У всех во вз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еселье. Блещет яркость л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Gaudeamus в общем х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ют профессор и студ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споминаньем каждый ранен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реди чужих людей одни, -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ришельцы, снова в день Татьянин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ошлись, как там в былые дн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84720" y="112536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2 января (25 января по новому стилю) 1724 года Петром Великим была основана Российская Академия Наук в Санкт-Петербурге. А через год при Академии открылся Санкт-Петербургский Академический Университет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Picture 7" descr="9N0487"/>
          <p:cNvPicPr/>
          <p:nvPr/>
        </p:nvPicPr>
        <p:blipFill>
          <a:blip r:embed="rId1"/>
          <a:stretch/>
        </p:blipFill>
        <p:spPr>
          <a:xfrm>
            <a:off x="0" y="1125360"/>
            <a:ext cx="4114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55640" y="22860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.В. Ломоносов оказал влияние на то, что университет открылся в Москве, а не в Петербурге или каком другом городе России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36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38:04Z</dcterms:created>
  <dc:creator>User</dc:creator>
  <dc:description/>
  <dc:language>en-US</dc:language>
  <cp:lastModifiedBy>User</cp:lastModifiedBy>
  <dcterms:modified xsi:type="dcterms:W3CDTF">2012-11-15T17:37:12Z</dcterms:modified>
  <cp:revision>12</cp:revision>
  <dc:subject/>
  <dc:title>История возникновения праздника </dc:title>
</cp:coreProperties>
</file>